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F16-8B18-4290-92CE-D7900DF6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BD4-2A14-43E4-BAB1-E7D3147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B2B-10EF-4E4E-9A04-1D12EB9B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A40-883D-46FE-AA50-8DD6C3AA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AF8-2BAA-48BE-ACA2-8B267EFD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266-ED4C-4FA9-8987-FD54EFD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9B6-0C76-49F3-B247-41FADDF2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5E8-10DC-4696-83E4-7F27D31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CC7-37E3-4ADF-9A83-8127E8C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703-16E3-4128-9E9D-9DD1FB4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5FF-9FFD-4CC6-B200-D12E883B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E77-6473-47E5-9EFF-59FD5CD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76C-4090-449C-86AF-165A3CB4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9 de may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7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e Examen: Capitulo 8 la proxima se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.O: to continue the review for the Unit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ritura en silen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anish, write a paragraph about your favorite musician or musical group, tell why you like their music and what your favorite song by this musician or group is. (5 sentence 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2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5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dad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ODAY’S CLASS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09480" y="34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21:29Z</dcterms:created>
  <dc:creator>Helen Zumaeta</dc:creator>
  <dc:description/>
  <dc:language>en-US</dc:language>
  <cp:lastModifiedBy>Helen Zumaeta</cp:lastModifiedBy>
  <dcterms:modified xsi:type="dcterms:W3CDTF">2016-05-09T15:36:54Z</dcterms:modified>
  <cp:revision>15</cp:revision>
  <dc:subject/>
  <dc:title>Me llamo________ Clase 8im La fecha es el 17 de enero del 2013</dc:title>
</cp:coreProperties>
</file>